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00C-686E-49DB-91DE-19BEB3D4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721-B53E-4C47-87EF-62D6BD5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569-6939-4AA2-80BA-AC766ABF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434-96B8-42BC-A040-6B5C833C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8BD-0FEB-4420-8FED-1F7158FB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9C4-476D-4D78-A846-3F2AD02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936F-A6DB-46EC-B1DD-BDE8737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790-839F-47EE-A86C-297C096E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67A-E0DD-4915-8BA1-A2F8F8B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B05E-2C79-4E8C-9317-957EC7D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DD1D-63FB-408B-A126-6CDA374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8DD-FB6C-429A-B9FD-3346D04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2D69-5CFA-48DC-855F-0204AC8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CBD-0440-4937-81CD-57946F7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F1C-E611-4E37-BA25-B77FF574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5B04-0544-4554-8BB4-65664F0F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D53-13BB-4CF2-A1E4-79786948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DB8-B9FE-4828-8E3D-3AE63FB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467-203A-4024-B9FF-BC6FF8B2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4BA-0BA9-496E-AB6D-8D6F4C2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117-2DF3-4895-87F9-FEA944FA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F42-9647-47D0-B9FA-B800848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D9C-7990-433F-B78F-B95703C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7D0-8E40-494F-8438-6B5B310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1283-C823-459C-A689-73618FD382AF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5DC-3E11-4291-B2F7-4B639C45E5A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96F-0031-4FB6-AF90-43B44C18422A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E8E-B81B-4E58-8478-8E6A8C6D7BD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Reti Neurali: studi sull'intelligenza artifici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. Gent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ipartimento di Matematica e Informatic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truttura delle re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 neuroni sono  distribuiti e connessi in modi che dipendono dal tipo di re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e reti di tipo feed-forward il segnale si propaga da un input a un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e reti ricorrenti o di tipo feedback torna anche indi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269532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47920" y="4495680"/>
            <a:ext cx="263844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 computer tradizionali non imparano dai propri sbag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ervello umano s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maggior parte delle reti neurali an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2166840"/>
            <a:ext cx="3429000" cy="3367080"/>
            <a:chOff x="4648320" y="2166840"/>
            <a:chExt cx="3429000" cy="3367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648320" y="2166840"/>
              <a:ext cx="3429000" cy="33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705720" y="236232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’addestramento delle re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Addestr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rispondono in funzione della forza delle connessioni fra neur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rete addestrata è quindi una rete in cui i pesi delle connessioni sono stati fiss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eto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724280"/>
            <a:ext cx="7162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a struttura predefi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supervisi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auto-organizz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53341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43000" y="6019920"/>
            <a:ext cx="676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a storia delle reti neurali artificiali: gli iniz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primo modello di neurone artificiale risale al 1943 e fu ideato da Mc. Culloch e Pi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prime reti neurali artificiali non apprendevano e i pesi sinaptici venivano modificati a m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neuroni avevano una semplice attivazione a sog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Gli anni 50-6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 1949 Hebb propose il primo meccanismo di apprendimento: se due neuroni sono attivi contemporaneamente la forza della loro connessione aum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 1962 Rosemblatt propose una regola di apprendimento che modificava i pesi se la risposta era scorretta (perceptron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o stesso periodo (1960) Widrow e Hoff proposero un meccanismo simile ma più potente la “regola della delta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6764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Gli anni 70-8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69 Minsky e Papert dimostrarono che i perceptron non erano in grado di risolvere funzioni logiche non linearmente separabil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74 Kohonen propose le “mappe di Kohonen” si trattava di reti “non supervisiona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86 venne risolto il problema dei perceptron con lo sviluppo della “Back-Propagation” il metodo più diffuso ancor ogg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o stesso anno Grossberg propose la Teoria della Risonanza Adattiva che permetteva di aggiungere conoscenza a una rete già addestr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590760" cy="609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4920" y="5181480"/>
            <a:ext cx="67608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676080" cy="5047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33520" y="2209680"/>
            <a:ext cx="489960" cy="447840"/>
            <a:chOff x="533520" y="2209680"/>
            <a:chExt cx="489960" cy="447840"/>
          </a:xfrm>
        </p:grpSpPr>
        <p:grpSp>
          <p:nvGrpSpPr>
            <p:cNvPr id="167" name=""/>
            <p:cNvGrpSpPr/>
            <p:nvPr/>
          </p:nvGrpSpPr>
          <p:grpSpPr>
            <a:xfrm>
              <a:off x="550800" y="2209680"/>
              <a:ext cx="39240" cy="442440"/>
              <a:chOff x="550800" y="2209680"/>
              <a:chExt cx="39240" cy="442440"/>
            </a:xfrm>
          </p:grpSpPr>
          <p:sp>
            <p:nvSpPr>
              <p:cNvPr id="168" name=""/>
              <p:cNvSpPr/>
              <p:nvPr/>
            </p:nvSpPr>
            <p:spPr>
              <a:xfrm>
                <a:off x="568800" y="2240280"/>
                <a:ext cx="360" cy="41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800" y="2209680"/>
                <a:ext cx="39240" cy="3852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65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69880" y="2598480"/>
              <a:ext cx="453600" cy="42840"/>
              <a:chOff x="569880" y="2598480"/>
              <a:chExt cx="453600" cy="42840"/>
            </a:xfrm>
          </p:grpSpPr>
          <p:sp>
            <p:nvSpPr>
              <p:cNvPr id="171" name=""/>
              <p:cNvSpPr/>
              <p:nvPr/>
            </p:nvSpPr>
            <p:spPr>
              <a:xfrm>
                <a:off x="569880" y="2617920"/>
                <a:ext cx="4244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87120" y="25984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12520" y="2282760"/>
              <a:ext cx="7272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2282760"/>
              <a:ext cx="7128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2520" y="2579400"/>
              <a:ext cx="72720" cy="78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2579400"/>
              <a:ext cx="71280" cy="7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920" y="2217600"/>
              <a:ext cx="34884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viluppi degli ultimi 10 an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zioni delle reti neurali esistenti a moltissimi campi di ricer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viluppo di hardware parallelo per implementare le reti neura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zione della logica Fuzzy alle reti neur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ossibilità di aggiungere conoscenza a reti supervisionate già addes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Applicazioni esisten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mpressione dei d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liminazione del ru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conoscimento segnali so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cchina da scrivere fone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conoscimento di caratt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istemi di guida auto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nalisi finanzia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Problema del riconoscimento di ogget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280" y="3429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gget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lassif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962520"/>
            <a:ext cx="106704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657600"/>
            <a:ext cx="190512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3733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lassifica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962520"/>
            <a:ext cx="16002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429000"/>
            <a:ext cx="220968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struzione di una descrizione 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Vantaggi delle reti neur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sono in grado di risolvere problemi estremamente complessi per algoritmi tradizio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in grado di impa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vorano in tempo re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ttengono risultati anche in presenza di dati complicati e imprec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s’è l’intelligenza artificia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o scopo dell’intelligenza artificiale è lo sviluppo di algoritmi che svolgono operazioni che apparentemente richiedono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cognizi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quando fatte da um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 sistema intelligente deve fare 3 co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197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morizzare la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re la conoscenza a risolvere i probl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cquisire conoscenza tramite l’esperi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Possibili limi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“scatole nere”, i problemi vengono risolti, non cap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È necessario disporre di un ampio insieme di esempi per addestrar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s’è una rete neura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rete neurale è letteralmente una rete di neuroni (artificiali o no) collegati fra lo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singolo neurone del cervello  è più lento di un chip (1 evento/ms vs 1 milione/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ervello è però composto da 100 miliardi di neuroni ognuno dei quali comunica con altri diecimila neur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mputer e reti neur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omputer tradizionale (di Von Neumann) è molto rapido e efficiente nel risolvere compiti in cui l’essere umano è in difficol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È però molto lento e inefficiente nel risolvere problemi che riguardano la vita quotidiana che l’essere umano risolve molto veloce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48720" y="762120"/>
            <a:ext cx="76176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alcolatore tradizional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dato viene elaborato in success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siste un solo elemento di elaborazione (processore) che fa tutte le operaz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dato è identificato da un indiriz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alcolatore deve essere programmato per svolgere un comp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601992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ervello uma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dati vengono elaborati in parall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olti elementi di elaborazione (neuroni) lavorano allo stesso probl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singolo dato è identificato in base al conten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ervello impara in base all’esperienza o con l’aiuto di un insegn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617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362320" y="6019920"/>
            <a:ext cx="3200400" cy="457200"/>
            <a:chOff x="2362320" y="6019920"/>
            <a:chExt cx="3200400" cy="457200"/>
          </a:xfrm>
        </p:grpSpPr>
        <p:sp>
          <p:nvSpPr>
            <p:cNvPr id="119" name=""/>
            <p:cNvSpPr/>
            <p:nvPr/>
          </p:nvSpPr>
          <p:spPr>
            <a:xfrm>
              <a:off x="2362320" y="601992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617220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632448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647712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e reti neurali artifici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artificiali sono sistemi di elaborazione ispirati al sistema nervoso degli esseri viventi li ricordano in due co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9320" y="38862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conoscenza è acquisita tramite un processo di addestr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forza delle connessioni fra neuroni è usata per memorizzare la conosc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Il cervello uma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cervello è costituito da una rete di neuro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singolo neurone, tramite dendriti e sinapsi arrivano segnali elettrici dagli altri neur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 il segnale è al di sopra di una soglia il neurone genera un segnale in uscita lungo l’ass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a rete neurale artifici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rete neurale artificiale è costituita da semplici unità che simulano i neuroni (neuroni o no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singolo neurone arrivano segnali dagli altri neuroni con una intensità che dipende dai pesi sinaptici delle conn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segnale in uscita è in genere una funzione della somma di quelli in entr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7:46:11Z</dcterms:created>
  <dc:creator>Stefania Gentili</dc:creator>
  <dc:description/>
  <dc:language>en-US</dc:language>
  <cp:lastModifiedBy>Università della Calabria</cp:lastModifiedBy>
  <dcterms:modified xsi:type="dcterms:W3CDTF">2003-05-22T13:32:00Z</dcterms:modified>
  <cp:revision>27</cp:revision>
  <dc:subject/>
  <dc:title>Reti Neurali: studi sull'intelligenza artificiale</dc:title>
</cp:coreProperties>
</file>