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7280" y="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41400" y="744120"/>
            <a:ext cx="4973760" cy="37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2960" y="4724280"/>
            <a:ext cx="50320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945036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7280" y="945036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3BBA-7CB1-4C41-BA96-45BB262813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2960" y="4724280"/>
            <a:ext cx="50320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low Meeting – Naples,  April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2960" y="4724280"/>
            <a:ext cx="50320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low Meeting – Naples,  April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2960" y="4724280"/>
            <a:ext cx="50320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low Meeting – Naples,  April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55500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28C-947C-4CF0-B213-B519C2AB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DC6-289E-4344-84CE-57DAB5E1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AEA-EE57-4E36-B496-FAF71554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DAE-A047-46BF-95E6-880984C6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921-13A9-436E-87F3-1688D9C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8280" y="157320"/>
            <a:ext cx="7155000" cy="18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863-9862-4FF3-A675-0B94DCF4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36D-58C5-4590-B87C-72C9942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97D-EAF4-4EB1-99DD-8D656FD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949-EBFC-4879-B8FB-6777966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55500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468-D0C6-488E-A927-B2F04B0F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446-40DE-4057-ADD1-4B162EBD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057-753B-4558-8DB6-00C2A985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8280" y="157320"/>
            <a:ext cx="7155000" cy="18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http://www.unical.it/index.html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17600" y="471600"/>
            <a:ext cx="4214880" cy="38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 rot="16200000">
            <a:off x="-731880" y="1639080"/>
            <a:ext cx="2898720" cy="36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843440" y="3801960"/>
            <a:ext cx="4214880" cy="2898720"/>
            <a:chOff x="4843440" y="3801960"/>
            <a:chExt cx="4214880" cy="2898720"/>
          </a:xfrm>
        </p:grpSpPr>
        <p:sp>
          <p:nvSpPr>
            <p:cNvPr id="5" name=""/>
            <p:cNvSpPr/>
            <p:nvPr/>
          </p:nvSpPr>
          <p:spPr>
            <a:xfrm rot="10800000">
              <a:off x="4843440" y="6492960"/>
              <a:ext cx="4214880" cy="381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7438320" y="5232960"/>
              <a:ext cx="2898720" cy="36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280" y="71280"/>
            <a:ext cx="59076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rot="16200000">
            <a:off x="-2466000" y="3081960"/>
            <a:ext cx="5770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pperplate Gothic Bold"/>
              </a:rPr>
              <a:t>Università della Calab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E80A-2F15-4F04-92C1-6F13E349CAED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8160" y="1380960"/>
            <a:ext cx="78105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2001 Etnean Crisis: Application Of The “SCIARA” Sim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tion Mode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volio, M. V.,</a:t>
            </a: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1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risci, G. M., </a:t>
            </a:r>
            <a:br>
              <a:rPr sz="2800"/>
            </a:b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 Gregorio, S., </a:t>
            </a: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1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ongo, R., </a:t>
            </a: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pataro, W.</a:t>
            </a:r>
            <a:r>
              <a:rPr b="0" i="1" lang="it-IT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artment of Earth Sciences</a:t>
            </a:r>
            <a:br>
              <a:rPr sz="2000"/>
            </a:b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artment of Mathematics</a:t>
            </a:r>
            <a:br>
              <a:rPr sz="2000"/>
            </a:br>
            <a:r>
              <a:rPr b="0" i="1" lang="en-GB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12</a:t>
            </a:r>
            <a:r>
              <a:rPr b="0" i="1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igh Performance Computing Center</a:t>
            </a:r>
            <a:r>
              <a:rPr b="0" i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niversity of Calabria, Italy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114800"/>
            <a:ext cx="74678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6160" y="0"/>
            <a:ext cx="7755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GCP 455 Second International Workshop: “</a:t>
            </a:r>
            <a:r>
              <a:rPr b="1" i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ternational Symposium on interaction between volcanoes and their basement and related geological hazards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760" y="6521400"/>
            <a:ext cx="39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Santiago del Cile – 22-24 octo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600200" y="2057400"/>
          <a:ext cx="59436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59436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333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ellular Automata (Flow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94880" y="796680"/>
            <a:ext cx="8062920" cy="54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15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arca, Crisci, Di Gregorio, Nicoletta (1986-89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approach to the Cellular Automata Model. Three and two dimensional models with discrete time and space, allowing multiple flow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hihara et al. (1988, 1989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Navier-Stokes equations, adopting a space tessellation and discrete time. However, not applicable to multi-flows and/or extruded intermittently flow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oung and Wadge (1990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ellular Automata approach with simulation of simple advancing lava flow fronts (FLOWFRO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iyamoto H. and Sasaki S. (199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mulating lava flows by an improved cellular automata method. They solved the problem of spurious symmetries with a probabilistic meth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cBirney, A.R., Murase, T. (198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y of rheological properties of magmas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Kilburn, C.R.J., Lopes, R.M.C. (199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y of temperature mixing in aa flow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33320" y="0"/>
            <a:ext cx="6896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Lava Simulation Models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(by oth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9120" y="791640"/>
            <a:ext cx="773100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nite states of each cell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altitude (e.g. 2000 a.s.l) : varies due to lava solidificati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ava thickness (e.g. 6 m): varies due to in-coming and out-going lava flow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ava outflows (6) towards neighbouring cells: calculated by minimizing lava heights among neighbour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ava temperature (e.g. 1200 K°): varies by (1) averaging temperature from incoming flows and (2) thermal energy losses at su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CA States for Lava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mally speaking!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l definition, is given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IA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R, L, X, S,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{(x, y)| x, 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x, 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} is the set of hexagonal cells in the finite region where the phenomenon evolv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specifies the lava source ce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X identifies the geometrical pattern of cells that influence the cell state chang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br>
              <a:rPr sz="32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{Center, NW, NE, E, SE, SW, W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Formally speaking!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ite set S of states of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altitude of the cel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a parameter correlated to the lava thickness in the cel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a parameter correlated to the temperature of the lava in the cel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a parameter correlated to lava outflows from the cell toward the six neighbourhood dir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is the deterministic state transition for the cells in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the emitted lava from the source cell at the time t. In this case the set of natural number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time intervals of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Formally speaking!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05840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ime we specify the states of the cells in R, defining the initial configuration of the C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each following step the function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pplied to all cells in R, at the same time the function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cts the substate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ells in L, so that the configuration is changed in time and the evolution of the 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IA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bta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8280" y="11448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ell Altitude S</a:t>
            </a:r>
            <a:r>
              <a:rPr b="0" lang="it-IT" sz="3200" spc="-1" strike="noStrike" baseline="-25000">
                <a:solidFill>
                  <a:srgbClr val="333399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ll Altitude at step t+1 is increased by the thickness of lava, once the lava temperature drops to a minimal value so that motion is blocked (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solidificat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)  (i.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utomatic morphology updating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the same time the lava thickness of the cell is reset to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ults from earlier simulations on Etnean flows suggest that the Etnean examples are reasonably represented by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7 m for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1123 K and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0.7 m for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1373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362320" y="3352680"/>
            <a:ext cx="3504600" cy="2796120"/>
            <a:chOff x="2362320" y="3352680"/>
            <a:chExt cx="3504600" cy="2796120"/>
          </a:xfrm>
        </p:grpSpPr>
        <p:sp>
          <p:nvSpPr>
            <p:cNvPr id="232" name=""/>
            <p:cNvSpPr/>
            <p:nvPr/>
          </p:nvSpPr>
          <p:spPr>
            <a:xfrm>
              <a:off x="2742840" y="548640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895480" y="37335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28640" y="5410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5410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19160" y="39625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19160" y="52578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604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0560" y="3352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28640" y="3962160"/>
              <a:ext cx="0" cy="152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5257800"/>
              <a:ext cx="228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962520"/>
              <a:ext cx="532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8640" y="4038480"/>
              <a:ext cx="1752480" cy="1219320"/>
            </a:xfrm>
            <a:custGeom>
              <a:avLst/>
              <a:gdLst/>
              <a:ahLst/>
              <a:rect l="l" t="t" r="r" b="b"/>
              <a:pathLst>
                <a:path w="1104" h="816">
                  <a:moveTo>
                    <a:pt x="0" y="0"/>
                  </a:moveTo>
                  <a:cubicBezTo>
                    <a:pt x="52" y="268"/>
                    <a:pt x="104" y="536"/>
                    <a:pt x="288" y="672"/>
                  </a:cubicBezTo>
                  <a:cubicBezTo>
                    <a:pt x="472" y="808"/>
                    <a:pt x="788" y="812"/>
                    <a:pt x="1104" y="81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8640" y="3962520"/>
              <a:ext cx="60948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38480" y="4952880"/>
              <a:ext cx="114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76360" y="56386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8840" y="56386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2320" y="3809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2320" y="4952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477120" y="4191120"/>
                <a:ext cx="1752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he “Adherence Paramet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Temperature drop computation S</a:t>
            </a:r>
            <a:r>
              <a:rPr b="0" lang="it-IT" sz="3200" spc="-1" strike="noStrike" baseline="-25000">
                <a:solidFill>
                  <a:srgbClr val="3333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11708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is assumed that lava inside a cell can be treated as though thermally well mixe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might seem like a major simplification but, as suggested by Kilburn &amp; Lopes (1991), i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yield a characteristic cooling time scale comparable to the typical emplacement times of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lows,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u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step calc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) Averaging temperature of residual lava inside a cell and incoming lav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) Estimation of temperature drop due to thermal energy losses at the surfa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Tempera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09600" y="4587840"/>
            <a:ext cx="6869160" cy="641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at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820880" y="1563840"/>
                <a:ext cx="511020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va</m:t>
                            </m:r>
                          </m:sub>
                        </m:sSub>
                        <m:r>
                          <m:t xml:space="preserve">´</m:t>
                        </m:r>
                        <m:r>
                          <m:t xml:space="preserve">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i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  <m:r>
                                  <m:t xml:space="preserve">´</m:t>
                                </m:r>
                                <m:r>
                                  <m:t xml:space="preserve">T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nary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va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61800" y="1185480"/>
            <a:ext cx="687996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ular Automa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va Flow Modelling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 Model Overview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nean July 2001 Eruptio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ons &amp; Future Scen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7616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ell lava thickness S</a:t>
            </a:r>
            <a:r>
              <a:rPr b="0" lang="it-IT" sz="3200" spc="-1" strike="noStrike" baseline="-25000">
                <a:solidFill>
                  <a:srgbClr val="3333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value of the lava thickness inside a cell during a CA time-step is computed by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adding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inflows towards the cell,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subtracting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eventually outgoing flows towards neighbouring cells, to the remaing lava inside the cell (adheren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Lava flows computation S</a:t>
            </a:r>
            <a:r>
              <a:rPr b="0" lang="it-IT" sz="3200" spc="-1" strike="noStrike" baseline="-25000">
                <a:solidFill>
                  <a:srgbClr val="3333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85716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outflows depend on the hydrostatic pressure gradients among the cell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algorithm is based on the minimisation of the differences of heights between neighbouring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over, the lava rheological resistance depends on temperature (resistanc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ncreas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s temperatur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ecreas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 (McBirney &amp; Murase, 198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have chosen to model rheological resistance in terms of an adherence parameter, which represents the amount of lava remaining in a cell at each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Minimisation algorithm (outline!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4840" y="703080"/>
            <a:ext cx="790236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utflow from a cell is calculated by minimizing the differences of heights between the neighbouring ce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79560" y="1682640"/>
            <a:ext cx="5181480" cy="1052640"/>
            <a:chOff x="1879560" y="1682640"/>
            <a:chExt cx="5181480" cy="105264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1879560" y="1682640"/>
              <a:ext cx="186300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5119920" y="1682640"/>
              <a:ext cx="1941120" cy="105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1879560" y="3836880"/>
            <a:ext cx="5167440" cy="1033560"/>
            <a:chOff x="1879560" y="3836880"/>
            <a:chExt cx="5167440" cy="1033560"/>
          </a:xfrm>
        </p:grpSpPr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1879560" y="3836880"/>
              <a:ext cx="19148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"/>
            <a:stretch/>
          </p:blipFill>
          <p:spPr>
            <a:xfrm>
              <a:off x="5118840" y="3836880"/>
              <a:ext cx="1928160" cy="10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1312920" y="2819520"/>
            <a:ext cx="66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62072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v_height = 70/5 =14                        av_height = 40/4 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62072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eighbour cell 1 is eliminated               neighbour cell 3 is eli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62072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30320" y="4818240"/>
            <a:ext cx="673560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171144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0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v_height = 27/3 = 9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heights after the l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171144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o cell is eliminate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transition function intervene parameters which characterize globally the CA and therefore the lava flow in its physical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imension (5m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ing parameter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a emission and solidification temperature (1373 K and 1123 K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a adherence at vent (e.g. 0.7m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a adherence at solidification (e.g. 7m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graphy and location of the vent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a discharge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0"/>
            <a:ext cx="585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Global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71360" y="1176120"/>
            <a:ext cx="75610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35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va Flows show complex behaviou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35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eed for Navier-Stokes equations, B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35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y are Differential Equation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35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jor Complexities arise due to irregular ground topography and because lavas range rheologically from Newtonian fluids to brittle soli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804960" y="0"/>
            <a:ext cx="585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Lava Flow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90936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thematical tool for modelling natural phenomen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ceived in the 1950s by J. Von Neumann to investigate self-reproducti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 approach involves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 localit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(cell state interaction) and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uniformit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(same evolution for each cel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 = discrete time and space (usually square or hexagonal gri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ellular Automata (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7120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-384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nviromental Issu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Lava Flows, Landslides, Contamination, Bioremediation, Earthquakes, Forest Fires, Soil Erosion, etc…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-384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io-medicin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Immunology system, Cancer cell growt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-384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 applicat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Coffee percolation (ILLY), Tire mixture (PIRELLI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-384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luid-dynamics, Traffic, ETC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7616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A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A Bibliograph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0920" y="942480"/>
            <a:ext cx="77724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on Neumann, J., (1966)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ory of self reproducing automat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 University of Illinois Press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urray, A. B. and Paola, C., (1994),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cellular model of braided rive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a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371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54-57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lamud B. D. &amp; Turcotte D. L., (2000),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ellular Automata models applied to natural hazar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ing in Science and Engineer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vol 2 n. 3 pp 43-5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ffoli, T., (1984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ellular Automata as an alternative to (rather than an approximation of) differential equations in modeling physi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ysica 10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117-127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rgolus, N., Toffoli, T., Vichniac, G., (1986)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ellular Automata supercomputers for fluid-dynamics modell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hys. Rev. Lett., 56(10) ,1694-169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ichniac, G., (1984)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mulating physics with cellular automat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Physica 10D, 96-11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39680" y="1219320"/>
            <a:ext cx="77724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 can be seen as a d-dimensional space (i.e. grid), partitioned in cells of uniform size each one embedding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nite automa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ll is given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.e. altitude, temperature, outflows) of the neighbouring ce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ime t=0, the CA evolves changing the state at discrete times, according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iti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Cellular Autom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538280" y="3276720"/>
            <a:ext cx="6199200" cy="2541240"/>
            <a:chOff x="1538280" y="3276720"/>
            <a:chExt cx="6199200" cy="2541240"/>
          </a:xfrm>
        </p:grpSpPr>
        <p:grpSp>
          <p:nvGrpSpPr>
            <p:cNvPr id="119" name=""/>
            <p:cNvGrpSpPr/>
            <p:nvPr/>
          </p:nvGrpSpPr>
          <p:grpSpPr>
            <a:xfrm>
              <a:off x="1538280" y="3276720"/>
              <a:ext cx="2590920" cy="2541240"/>
              <a:chOff x="1538280" y="3276720"/>
              <a:chExt cx="2590920" cy="2541240"/>
            </a:xfrm>
          </p:grpSpPr>
          <p:sp>
            <p:nvSpPr>
              <p:cNvPr id="120" name=""/>
              <p:cNvSpPr/>
              <p:nvPr/>
            </p:nvSpPr>
            <p:spPr>
              <a:xfrm>
                <a:off x="2686680" y="4376520"/>
                <a:ext cx="4100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ffffff"/>
                    </a:solidFill>
                    <a:latin typeface="Times New Roman"/>
                  </a:rPr>
                  <a:t>0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49520" y="4801680"/>
                <a:ext cx="505440" cy="507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54960" y="4293360"/>
                <a:ext cx="505440" cy="507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43720" y="4293360"/>
                <a:ext cx="505440" cy="507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49520" y="4293360"/>
                <a:ext cx="505440" cy="5079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49520" y="3783240"/>
                <a:ext cx="505440" cy="507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31840" y="4372920"/>
                <a:ext cx="552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91640" y="4911480"/>
                <a:ext cx="5054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74400" y="4372920"/>
                <a:ext cx="51048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84800" y="3863880"/>
                <a:ext cx="4399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43720" y="3863880"/>
                <a:ext cx="570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7080" y="4905360"/>
                <a:ext cx="5677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54960" y="4905360"/>
                <a:ext cx="5515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72600" y="3863880"/>
                <a:ext cx="49428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44040" y="3863880"/>
                <a:ext cx="4993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38280" y="4884480"/>
                <a:ext cx="5893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44040" y="5371560"/>
                <a:ext cx="59328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17080" y="5371560"/>
                <a:ext cx="5677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81920" y="5371560"/>
                <a:ext cx="552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38280" y="4372920"/>
                <a:ext cx="5025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67240" y="5371560"/>
                <a:ext cx="561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57120" y="5371560"/>
                <a:ext cx="4885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84880" y="4905360"/>
                <a:ext cx="543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06480" y="4372920"/>
                <a:ext cx="5223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55440" y="3863880"/>
                <a:ext cx="4100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81920" y="4372920"/>
                <a:ext cx="51480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97080" y="3385080"/>
                <a:ext cx="4874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55440" y="3355200"/>
                <a:ext cx="4100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84800" y="3355200"/>
                <a:ext cx="4892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43720" y="3355200"/>
                <a:ext cx="4964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81120" y="3355200"/>
                <a:ext cx="5025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38280" y="32774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043720" y="32774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49520" y="32774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60400" y="327672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54960" y="32774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538280" y="378540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43720" y="378540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60400" y="378468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54960" y="378540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38280" y="429336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560400" y="429264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38280" y="480168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43720" y="480168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60400" y="480060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54960" y="480168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38280" y="531036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43720" y="531036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49520" y="531036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60400" y="53096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54960" y="531036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662720" y="3281400"/>
              <a:ext cx="3074760" cy="2530440"/>
              <a:chOff x="4662720" y="3281400"/>
              <a:chExt cx="3074760" cy="2530440"/>
            </a:xfrm>
          </p:grpSpPr>
          <p:sp>
            <p:nvSpPr>
              <p:cNvPr id="172" name=""/>
              <p:cNvSpPr/>
              <p:nvPr/>
            </p:nvSpPr>
            <p:spPr>
              <a:xfrm flipH="1" rot="16200000">
                <a:off x="5579280" y="3765960"/>
                <a:ext cx="632520" cy="614880"/>
              </a:xfrm>
              <a:prstGeom prst="hexagon">
                <a:avLst>
                  <a:gd name="adj" fmla="val 25717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16200000">
                <a:off x="5269680" y="4238280"/>
                <a:ext cx="631440" cy="614160"/>
              </a:xfrm>
              <a:prstGeom prst="hexagon">
                <a:avLst>
                  <a:gd name="adj" fmla="val 25703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5886000" y="42418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6200000">
                <a:off x="5576400" y="471420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00000">
                <a:off x="6194880" y="376740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6200000">
                <a:off x="6809040" y="3771000"/>
                <a:ext cx="632520" cy="614160"/>
              </a:xfrm>
              <a:prstGeom prst="hexagon">
                <a:avLst>
                  <a:gd name="adj" fmla="val 2574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6200000">
                <a:off x="6501240" y="42418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16200000">
                <a:off x="7114320" y="42418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6200000">
                <a:off x="6192720" y="4715640"/>
                <a:ext cx="632520" cy="614880"/>
              </a:xfrm>
              <a:prstGeom prst="hexagon">
                <a:avLst>
                  <a:gd name="adj" fmla="val 25717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16200000">
                <a:off x="6809040" y="4716000"/>
                <a:ext cx="632520" cy="614160"/>
              </a:xfrm>
              <a:prstGeom prst="hexagon">
                <a:avLst>
                  <a:gd name="adj" fmla="val 2574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6200000">
                <a:off x="4962240" y="37648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6200000">
                <a:off x="5270760" y="32896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16200000">
                <a:off x="5887080" y="329436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16200000">
                <a:off x="6504120" y="3294720"/>
                <a:ext cx="632160" cy="614880"/>
              </a:xfrm>
              <a:prstGeom prst="hexagon">
                <a:avLst>
                  <a:gd name="adj" fmla="val 2570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16200000">
                <a:off x="4961520" y="4708800"/>
                <a:ext cx="632520" cy="614880"/>
              </a:xfrm>
              <a:prstGeom prst="hexagon">
                <a:avLst>
                  <a:gd name="adj" fmla="val 2571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16200000">
                <a:off x="5266800" y="51886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16200000">
                <a:off x="5883840" y="51886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6200000">
                <a:off x="6499800" y="51886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00000">
                <a:off x="4654440" y="423432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73480" y="4388040"/>
                <a:ext cx="71604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50320" y="38818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99440" y="3881880"/>
                <a:ext cx="62604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31960" y="4345560"/>
                <a:ext cx="49140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39760" y="4829760"/>
                <a:ext cx="54540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-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65320" y="4346640"/>
                <a:ext cx="4899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1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81640" y="4829760"/>
                <a:ext cx="5367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1,-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65320" y="334800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31960" y="5271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-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69520" y="5271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1,-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65320" y="5271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2,-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6720" y="4857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2,-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75880" y="438804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2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76720" y="391284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69520" y="334800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1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31960" y="334800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2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94640" y="38818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2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16720" y="4326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2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63320" y="4829760"/>
                <a:ext cx="67644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1,-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895320" y="733320"/>
            <a:ext cx="7686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t of regular square or hexagons cover the finite region where the phenomenon evo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square hexagon is individuated by a pair of integers 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A Neighbourh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52280" y="2228400"/>
            <a:ext cx="7358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s possible applications can b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-1440" algn="just"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ong term forecasting of the flow direction at various eruption rates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-1440" algn="just"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creation of microzonal hazard maps through a statistical approach, by simulating different lava ev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-1440" algn="just"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ility to follow the progress of an event and predict its evolu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-1440" algn="just"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imulation of the possible effects of intervention (canals, embankments, etc) on flows for stream devi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The SCIAR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25560" y="874800"/>
            <a:ext cx="75769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IARA is a Cellular Automata based model for the simulation of lava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0:08:30Z</dcterms:created>
  <dc:creator>Pippo</dc:creator>
  <dc:description/>
  <dc:language>en-US</dc:language>
  <cp:lastModifiedBy>empedocles</cp:lastModifiedBy>
  <dcterms:modified xsi:type="dcterms:W3CDTF">2003-05-19T09:00:38Z</dcterms:modified>
  <cp:revision>95</cp:revision>
  <dc:subject/>
  <dc:title>Hexagonal Cellular Automata Model for Lava Flow Simulation. G M Crisci, A Di Francia, S Di Gregorio, R Rongo W Spataro University of Calabria,  Italy</dc:title>
</cp:coreProperties>
</file>